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0D1-AF0D-4A48-B051-1F2B7365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E1B-0942-4BDC-B169-DCD511DB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F729-4A34-43BA-8F27-AB5C683E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EAA-CB1D-4BF6-AC7C-D8303C22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AF5-577C-488F-9F8D-8A4807B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CAE-7DC9-4608-8498-060F4D7C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0C7-A123-442C-B9CB-FF38C005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130-E83E-42F8-9144-083FD3D0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207-CE13-4DF7-A585-C3021290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5D2-A27E-42C1-BF22-C73C60D7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75E-1A97-4564-B2C4-79BC4DD3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374-0AB7-4682-8BC1-518068DF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1155-3293-47C5-95B4-2AD91B6B8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sinessdictionary.com/definition/employee.html" TargetMode="External"/><Relationship Id="rId2" Type="http://schemas.openxmlformats.org/officeDocument/2006/relationships/hyperlink" Target="http://www.businessdictionary.com/definition/remuneration.html" TargetMode="External"/><Relationship Id="rId3" Type="http://schemas.openxmlformats.org/officeDocument/2006/relationships/hyperlink" Target="http://www.businessdictionary.com/definition/allowance.html" TargetMode="External"/><Relationship Id="rId4" Type="http://schemas.openxmlformats.org/officeDocument/2006/relationships/hyperlink" Target="http://www.businessdictionary.com/definition/overtime.html" TargetMode="External"/><Relationship Id="rId5" Type="http://schemas.openxmlformats.org/officeDocument/2006/relationships/hyperlink" Target="http://www.businessdictionary.com/definition/pay.html" TargetMode="External"/><Relationship Id="rId6" Type="http://schemas.openxmlformats.org/officeDocument/2006/relationships/hyperlink" Target="http://www.businessdictionary.com/definition/commission.html" TargetMode="External"/><Relationship Id="rId7" Type="http://schemas.openxmlformats.org/officeDocument/2006/relationships/hyperlink" Target="http://www.businessdictionary.com/definition/deduction.html" TargetMode="External"/><Relationship Id="rId8" Type="http://schemas.openxmlformats.org/officeDocument/2006/relationships/hyperlink" Target="http://www.businessdictionary.com/definition/gross-pay.html#ixzz167Ez1yLk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vestorwords.com/205/amount.html" TargetMode="External"/><Relationship Id="rId3" Type="http://schemas.openxmlformats.org/officeDocument/2006/relationships/hyperlink" Target="http://www.investorwords.com/1696/employee.html" TargetMode="External"/><Relationship Id="rId4" Type="http://schemas.openxmlformats.org/officeDocument/2006/relationships/hyperlink" Target="http://www.businessdictionary.com/definition/gross-pay.html" TargetMode="External"/><Relationship Id="rId5" Type="http://schemas.openxmlformats.org/officeDocument/2006/relationships/hyperlink" Target="http://www.investorwords.com/1340/deduction.html" TargetMode="External"/><Relationship Id="rId6" Type="http://schemas.openxmlformats.org/officeDocument/2006/relationships/hyperlink" Target="http://www.investorwords.com/5972/taxes.html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hley &amp; Kelsey &amp; Pay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362320"/>
            <a:ext cx="86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of a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ployee'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egula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muner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cluding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llowanc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verti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a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mmiss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and bonuses, etc., before an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deduct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re made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d mo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businessdictionary.com/definition/gross-pay.html#ixzz167Ez1y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6405840" cy="22885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aining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moun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f a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mployee'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ross p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deduct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such a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ax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nd retirement contributions, are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mor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investorwords.com/6593/net_pay.html#ixzz167GV29H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98108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gebraic expressions, like terms are terms that contain the same variables raised to the same power. Only the coefficients of like terms are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dding or subtracting unlike terms is like mixing apples and oranges -- only like terms can be combined. To combine like terms, add the coefficients and multiply the sum by the common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23:21Z</dcterms:created>
  <dc:creator>ashley.gipson</dc:creator>
  <dc:description/>
  <dc:language>en-US</dc:language>
  <cp:lastModifiedBy>ashley.gipson</cp:lastModifiedBy>
  <dcterms:modified xsi:type="dcterms:W3CDTF">2010-11-23T14:48:42Z</dcterms:modified>
  <cp:revision>2</cp:revision>
  <dc:subject/>
  <dc:title>Ashley &amp; Kelsey &amp; Payton</dc:title>
</cp:coreProperties>
</file>